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E3C-94DF-4BA2-A2CD-A05C45DB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9B5-586D-4D65-8813-1696EEE2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DFF-30E5-4D48-8108-8AEFDA66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9A7-D69F-40B4-89CE-5353D476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680D-6721-452A-8BFA-AFBBD71F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B587-6680-4528-8BCE-6457253A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D1F7-797B-499A-B0F8-B1B3FE5C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64B3-628D-45FD-B09D-33178288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44D7-6161-4575-ACA2-43D4EEAD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46C7-CF09-4B93-BD86-96C8BF6C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E07C-1733-4E2E-B272-266158C0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0A5-1AF6-40F0-99FB-FDB92DCC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8C19-0924-47D0-B579-E60E50A7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29BD-ABED-4A58-B00D-2A1970BF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E8BF-A8AB-484D-BAA1-24C5D455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9734-9DD3-4237-A356-90F059FC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FC8E-1542-4B68-940A-7CDB7131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12ABA-5E91-44FD-B016-1723E828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5E78-86A5-4CD8-A9C9-EBC38C2D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9A6C-2F80-434B-B602-63F1FF1F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1AB5-E689-497F-B044-0FA856FC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9481-8DD7-426A-9A4C-C303AF99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F4A-4077-4CE0-A9A8-BC0E256E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8BA8-6D86-4247-8FF4-F51EB31D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CE82-55EA-4173-8102-6D12030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58F2-6443-42BB-B007-A98FE08F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FC04-D866-4F15-B7DB-FDC8B104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9B21-1331-47EB-AE21-8B69BF5D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4674-2FF1-497A-9D99-1884769B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B081-9D68-40DF-BBC7-3FDB77B3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999E3-FF6A-458A-88A3-05A45CE5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39A0-DB2A-4667-A352-474905C9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689D0-203D-42E2-B825-5E8DC8EE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6F2-9852-43BD-B5E2-04DDC0C0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C6D6-564B-4950-8A49-177AE824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F92A-62C1-4247-9A81-9C1B3E09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19983-9B60-47EC-A71B-74AD3049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B5142-C2A8-4A19-94D8-FA09EE76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1C78F-F7DA-463F-98B7-95CBFB0A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82E6-2475-410C-9222-D2807C9D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FB86-598E-455C-B874-B3F74425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A07F-AC62-49C8-B1BB-CBD2C4BC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26D0F-4A31-4D79-B7B5-CEDAB5E5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7E359-F1D6-4C00-A92F-AA16A620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E6F-9823-4496-B5C0-3CD70269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FC53C-D9BE-4740-B12B-1EA353C7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67211-9770-4883-8ADA-68C82F54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8BF8E-5719-4BAE-8F43-83D6D9E7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7E42D-0C97-4AAF-8594-5A852A36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7C5E0-1E29-4CBC-A3C8-05019B78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3ACC4-7328-405F-A74F-39F8EDA2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4B3A2-971F-424B-9EC4-232FBC5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EA45F-879A-4432-9B32-9D06FECD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51F99-6C9C-4C79-B425-2FE852FE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4BF24-E259-454B-B053-EF74AB69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0F8-55EA-4D89-8360-556B0079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BF2F3-4674-4D67-8234-3CD6576C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36A-F2CA-4F5E-9550-ED9042D9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86E-25C9-4FC3-975C-9E93F55D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0A1-E020-435A-8FBA-8A10382A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C5D9-116C-43A1-8A14-178CFE41C5EC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F59E-89D5-4FE1-80EC-5B37F26F2B2F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0850-AB9E-4F62-BA8A-0D3F3745DCA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B33B-FCD7-45D9-AA65-8F3C62BF3B53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D039-7EBD-4B0C-B835-9F537F00E43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745560" y="1893600"/>
            <a:ext cx="564804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Medium"/>
              </a:rPr>
              <a:t>СКВЕРНОСЛОВИЕ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5148360" y="22748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АМЯТКА ДЛЯ ПЕДАГОГОВ И РОДИТЕЛЕ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«КАК ОТУЧИТЬ РЕБЕНКА РУГАТЬСЯ МАТОМ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1. Не употребляйте сами ненормативную лексику, следите за собственной речью. Убедите взрослых, окружающих ребенка, не использовать мусорные слова.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2. Не спрашивайте (даже если очень хочется) у ребенка, где он услышал эти слова (а вдруг от вас!), поскольку этим вы заостряете внимание малыша к «этим словам» и к ситуации, в которой они были услышаны.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З. Реагируйте на ругательные слова ребенка в зависимости от его возраста. На слова, услышанные от младшего дошкольника, можно никак не реагировать, он, вполне вероятно, вскоре их забудет Ребенку среднего и старшего дошкольного возраста надо дать понять, что вы такие слова не хотите слышать у себя дома (в детском саду). Тактично, убедительно и спокойно объясните ребенку, что это обидные, плохие, грязные слова, их неприятно и говорить, и слышать. Хорошие дети такие слова не говорят, а вы уверены в том, что ваш ребенок хороший!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4. Не демонстрируйте ребенку эмоциональную реакцию по поводу услышанных вами неприличных слов, поскольку как положительная, так и отрицательная реакция взрослого может вызвать у ребенка желание повторить употребление неприличных слов для того, чтобы вызвать реакцию.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5. При непрекращающемся употреблении ребенком неприличных слов определите время и место, когда и где можно говорить плохие слова. Например, можно говорить эти слова у мусорного ведра только тогда, когда поблизости никого нет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6. Научите ребенка выражать свои сильные чувства другими, не бранными словами.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7. Поддерживайте в семье (в детском саду) доброжелательные отношения, поскольку мир, взаимопонимание и теплая атмосфера являются той средой, в которой ненормативная лексика не нужна.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М. МАТУСОВСКИЙ ВЫРАЗИЛ В СВОИХ СТИХАХ ОБИДУ И ГОРЕЧЬ НАНЕСЁННУЮ СКВЕРНОСЛОВИЕМ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2240" y="1099800"/>
            <a:ext cx="752184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Есть слова пострашнее, чем порох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Чем снаряд над окопными рвам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Я советую людям при ссорах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сторожнее быть со словам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Мир устроен на этой основе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И достаточно, в общем, серьёзно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 любом опрометчивом слов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ожалеете рано иль поздно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ы к словам проявляйте терпение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Не берите в расчёт кривотолков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едь от них остаются раненья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Как от мелких, но острых осколков 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Franklin Gothic Book"/>
              </a:rPr>
              <a:t>СПАСИБО!</a:t>
            </a:r>
            <a:endParaRPr b="1" lang="en-US" sz="8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АКТУАЛЬНОСТЬ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- Когда ребенок только овладевает родным языком, все слова для него - новые и интересные. Ему непонятно, почему одни слова можно употреблять всегда и везде, а другие произносить запрещается. Постепенно он усваивает: взрослые очень эмоционально реагируют на такие слова. Иногда смеются, иногда очень сильно сердятся. Тогда бранное слово становится еще более притягательным для ребенка. Ведь с его помощью можно заставить родителей растеряться, рассердиться, даже посмеяться. То есть получить изрядную порцию внимания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Как бы ни хотелось родителям, но на их любимых и воспитанных детей все же сильно влияет уличная среда. Как только малыши учатся вступать в контакт со своими сверстниками, возникает опасность того, что ребята научат друг друга не совсем полезным вещам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Невозможно изолировать ребенка от бранных слов – все равно, рано или поздно, но парочку выражений он подхватит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КВЕРНОСЛОВИЕ – ЧТО ЭТО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о «Толковому словарю русского языка» С. И. Ожегова и  Н. Ю. Шведова сквернословие – это речь, наполненная скверными, непристойными  словами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ократ говорил: “Каков человек, такова его и речь”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Макаренко А.С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«Матерное слово есть неприкрашенная, мелкая гадость, признак дикой, самой первобытной культуры, циничное, наглое хулиганское отрицание нашего пути к глубокой и действительно человеческой красоте…»                      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           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5280" y="105264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324000" y="476280"/>
            <a:ext cx="83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Немного истории.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 Матерные слова были внесены в нашу речь не монголо-татарами, как утверждают многие, они, к сожалению, имеют исконно русские кор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древней Руси мат являлся ни чем иным, как заклинанием, формулой для вступления в связь с нечистой силы. Через матерную брань люди вступали в общение с ней, как бы настраиваясь на их волну, призывая их в сво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о все знали, что бранить матом нельзя детей, они будут мучимы бесами. Материться в доме нельзя: бесы будут жить в этом жилище. Также нельзя было ругаться в лесу: леший может, обидится, на берегу реки или озера – оскорбится водяной. Где же человеку можно было выругаться, выплеснуть из себя всю злость? Оставалось одно место – поле. Отсюда и выражение “поле брани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амым важным и научно подтверждённым является то, что “мат” опасен для здоровья, он способствует снижению интеллекта, провоцирует преступления, создавая иллюзию вседозволенности, обворовывает нас духовно, унижает и оскорбл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н, впитывая в себя словесную грязь, калечит людские суд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ИЧИНЫ ДЕТСКОЙ БРАНИ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Ребенку просто нравится слово, но его негативного смысла он не понимает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. Ребенок понимает негативный смысл слова, но при этом произносит его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оказательно и многократно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. Ребенок произносит бранные слова к месту, по ситуации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4. Ребенок произносит непристойности только в компании сверстников, при появлении взрослых замолкает и смущается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ИЧИНЫ ПОДРОСТКОВОЙ БРАНИ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еакция на определенную ситуацию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оявление независимости, символ «взрослости»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одражание кумирам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ечевая среда в семье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АСПРОСТРАНЁННЫЕ МИФЫ О РУГАТЕЛЬСТВА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1.       Свобода слова. Но свобода слова – это свобода содержания речи, но совсем не свобода выражения. Унижением чести и достоинства человека считаются прозвища, нецензурная лексика, оценочные выражения, направленные на личность, слова, констатирующие  интеллектуальную или физическую неполноценность человека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2.       Миф о том, что ругательство  помогает выразить силу переживаний и чувств. Это недоработка филологов: именно они должны пропагандировать способы выражения сильных переживаний, так называемые крылатые фразы и идиомы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3.       Миф о том, что в небольших дозах или в определённых ситуациях ругательство допустимо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4.       Сквернословие укрепляется утверждением  о том, что ругаются все, бороться с этим нельзя. Ругаются далеко не все. Важно, не следовать плохим примерам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5.       Сквернословие также базируется на таком мифе: не хочу – не ругаюсь, хочу – и ругаюсь. Но потом оказывается: даже когда не хочу, все равно ругаюсь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УГАТЕЛЬСТВА МОЖНО РАЗДЕЛИТЬ НА НЕСКОЛЬКО КАТЕГОРИЙ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. Грубые ругательства, матерные выражения. К ним относятся несколько общеизвестных слов, образующих величайшее множество обращений. Использование этих слов против кого-либо преследуется по закону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. Эквиваленты матерных выражений, приспосабливающие для их обозначений другие слова (блин, офигеть и т.п.). Широко распространенное в современной речи явление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. Грубые слова и выражения, не относящиеся к матерным, но преследующие цель обидеть их адресата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АК ВЕСТИ СЕБЯ, ЕСЛИ БРАНИТСЯ МАЛЕНЬКИЙ РЕБЕНОК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Не уделять ему повышенного внимания в этот момент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Не вести себя агрессивно по отношению к малышу, выдавшему бранное слово, не ругать и не наказывать его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-      Если маленький ребенок употребил бранные слова при посторонних, кратко извинитесь за него и смените тему разговора; постарайтесь, чтобы этот инцидент не перешел в шумное разбирательство с участием других взрослых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9:26:26Z</dcterms:created>
  <dc:creator>Admin</dc:creator>
  <dc:description/>
  <dc:language>en-US</dc:language>
  <cp:lastModifiedBy>Андрей</cp:lastModifiedBy>
  <dcterms:modified xsi:type="dcterms:W3CDTF">2018-09-07T11:19:08Z</dcterms:modified>
  <cp:revision>12</cp:revision>
  <dc:subject/>
  <dc:title>Сквернословие</dc:title>
</cp:coreProperties>
</file>